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6D0-B481-40C5-85C2-8A373E51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23EF-8652-4CF2-A856-AFB1CBA89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CBC9-AB9D-4B71-9DA0-C8E3DF3E4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53E3-45A0-4B97-9D61-109849C1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3BF1-11FA-4773-B92B-D5703083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644B-1B93-44F2-A77E-D292A13AA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4683-88AC-4E64-836B-CCB7C5615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5AE5-77E3-41FC-9B54-CBE396B0B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F16C-C1DB-4578-BACB-2879FE98F8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9879-DC43-43BF-8C94-960B41947C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8C07-D288-4AC7-8CF9-4F6295BDC6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B024-443B-4A34-8297-043221421C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50E9-C5D4-47EE-B153-554631447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55B5-0380-489F-97FE-DD81321FCB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4598-1096-47ED-BF41-2B8927995B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6CBF-0296-4EBD-BCDB-0EFC34908C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A10D-0F96-4881-A923-F2460FEBB7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36DB-AD31-4266-A3F7-0B6E3E30A7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8044-5EEF-4F55-BC67-77CF0E6D17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E2C2-91A7-4F48-951A-E2D7BEE1E5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C51C-27A7-4922-8337-82EE3E73CC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099F-CCEA-4F4F-8830-B03E66AB5B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7807-A95D-4B19-BC8C-75F946A0A2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1C72-9908-4C07-A3E9-D08B7444A4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F08A-6183-4BA9-B427-1A9C25A37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E21F-24AA-41D1-B9D1-E8E9C2F2C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B6F4-BFF4-49AB-BDEB-4C82EA66F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A8C-386E-4FA8-8F50-3534ED1A5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1CE-E720-4238-B55F-48937DE1D5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rica RISING: Sustainable Intensification of Cereal-Based Farming Systems in the Sudano-Sahelian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Report 2012 –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Moving toward sustainable increases in on-farm productivity: via improved fodde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A Fall, IL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7720" y="837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Sites and partners in 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09480" y="1625760"/>
            <a:ext cx="5867640" cy="5006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6400800" y="1905120"/>
            <a:ext cx="266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2 Distric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Bougouni,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Kouti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9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28 Comm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9668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G Ce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RISAT, ILRI, ICRAF, AVR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NGO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DD, MOBIOM, AMAS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based organizations: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Centers: 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Sites and Partners in M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d the Future – Mali Target zone (Sikasso reg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asting land use issues/opportunities (soil fertility, forest cover, transhuma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des of existing research – development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ctioning cooperatives, associations with crop/ livestock production of marketing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te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tnership with state institutions not fund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bsidized fertiliser arrives late, and in low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ientists presence ‘volatile’ since Mali cri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7:48:16Z</dcterms:created>
  <dc:creator>IITA</dc:creator>
  <dc:description/>
  <dc:language>en-US</dc:language>
  <cp:lastModifiedBy>LeBorgne, Ewen (ILRI)</cp:lastModifiedBy>
  <cp:lastPrinted>2011-10-06T11:45:23Z</cp:lastPrinted>
  <dcterms:modified xsi:type="dcterms:W3CDTF">2012-10-24T12:29:10Z</dcterms:modified>
  <cp:revision>18</cp:revision>
  <dc:subject/>
  <dc:title>Slide 1</dc:title>
</cp:coreProperties>
</file>